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4215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B14E-9601-47D1-A445-D329E064F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8BAD-8BCD-4AB3-AA5E-7ABD8AF3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D02E-9A2A-4737-AB65-F7DB8A33B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4186-3187-4CCE-A3E6-65DF8437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9CA9-AB03-44D8-9BF0-B145ED1B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5367-0803-48CF-8188-247973CA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A556-1F37-4F25-993F-A63EDE6B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DB48-F225-4100-882E-3AC1FE19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D209-C41C-491F-B457-4C9B1586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E02C-BE99-4127-959D-3880C319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7541-5DA0-4187-84FC-5C53A0FA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E74F-FF22-4292-BD46-CD5200A2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foldedCorner">
            <a:avLst>
              <a:gd name="adj" fmla="val 762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689880" y="60339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logo_redproteger" descr=""/>
          <p:cNvPicPr/>
          <p:nvPr/>
        </p:nvPicPr>
        <p:blipFill>
          <a:blip r:embed="rId3"/>
          <a:stretch/>
        </p:blipFill>
        <p:spPr>
          <a:xfrm>
            <a:off x="63360" y="101520"/>
            <a:ext cx="579600" cy="6508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35040" y="749160"/>
            <a:ext cx="0" cy="604548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0360" y="838080"/>
            <a:ext cx="54612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808080"/>
                </a:solidFill>
                <a:latin typeface="Times New Roman"/>
              </a:rPr>
              <a:t>Programa de Trabajo para el Manejo de 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ftr" idx="1"/>
          </p:nvPr>
        </p:nvSpPr>
        <p:spPr>
          <a:xfrm>
            <a:off x="2743200" y="639432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2"/>
          </p:nvPr>
        </p:nvSpPr>
        <p:spPr>
          <a:xfrm>
            <a:off x="761760" y="6394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3"/>
          </p:nvPr>
        </p:nvSpPr>
        <p:spPr>
          <a:xfrm>
            <a:off x="8686800" y="639432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05D1-9E03-4C3D-9700-9558C53F8215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ojo%20azul%20oscuro%20pp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280" y="559152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s-AR" sz="2400" spc="-1" strike="noStrike">
                <a:solidFill>
                  <a:srgbClr val="ffffff"/>
                </a:solidFill>
                <a:latin typeface="Verdana"/>
              </a:rPr>
              <a:t>Programa de Trabajo para el Manejo de Carg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25704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Verdana"/>
              </a:rPr>
              <a:t>Red Pro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Presen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IN00699_" descr=""/>
          <p:cNvPicPr/>
          <p:nvPr/>
        </p:nvPicPr>
        <p:blipFill>
          <a:blip r:embed="rId2"/>
          <a:stretch/>
        </p:blipFill>
        <p:spPr>
          <a:xfrm>
            <a:off x="2705040" y="1693800"/>
            <a:ext cx="3732120" cy="3468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grama de Trabajo para el Manejo de Cargas - Oct.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53BF-F2B4-4C00-B7CC-15B21E0AF01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tor: Ing. Néstor BOTTA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295280" y="1676520"/>
            <a:ext cx="7258320" cy="41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Dentro de los accesorios incluimos: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eslingas de cable de acero, eslingas de cadenas, eslingas de tela, cáncamo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Los pasos a dar son los siguien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Relevamiento, clasificación e inventariado de los element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Standarización de element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Plan de recambio de elementos crític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Plan de inspección periód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Capacitación de todo el person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Cartel en taller indicativo sobre tabla de carg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Plan de auditoria de uso en tal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52280"/>
            <a:ext cx="4800600" cy="1600200"/>
          </a:xfrm>
          <a:prstGeom prst="rightArrow">
            <a:avLst>
              <a:gd name="adj1" fmla="val 50000"/>
              <a:gd name="adj2" fmla="val 750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Acceso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grama de Trabajo para el Manejo de Cargas - Oct.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87E4-CA1E-430D-AAD3-9E7BC90792F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tor: Ing. Néstor BOTTA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53960" y="647640"/>
            <a:ext cx="7043760" cy="83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Relevamiento, clasificación e inventariado de los elem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1866960"/>
            <a:ext cx="7467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Los objetivos son: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determinar el stock de elementos, estado de los mismos e incluirlos en el plan de inspec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53960" y="3429000"/>
            <a:ext cx="7043760" cy="2324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Elemento normal: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uede seguir en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Elemento crítico: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cambio program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Elemento muy crítico: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imi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723960"/>
            <a:ext cx="762120" cy="685800"/>
          </a:xfrm>
          <a:custGeom>
            <a:avLst/>
            <a:gdLst>
              <a:gd name="textAreaLeft" fmla="*/ 173880 w 762120"/>
              <a:gd name="textAreaRight" fmla="*/ 588240 w 7621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grama de Trabajo para el Manejo de Cargas - Oct.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10D7-0CCE-4598-B84D-8AC2C47A6DB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tor: Ing. Néstor BOTTA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53960" y="647640"/>
            <a:ext cx="7043760" cy="83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Standarización de ele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866960"/>
            <a:ext cx="7467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Los objetivos son: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unificar tipo y capacidad de los elementos de carg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53960" y="2895480"/>
            <a:ext cx="7043760" cy="327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Eliminación del estándar de compras, de la eslinga de cable de ace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Uso en taller de eslingas de cadena y faja de 3.000 kg de carga direc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Accesorios fuera de este estándar en depósito bajo control de uso y sal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Redacción de norma interna con estándar para el área de compr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723960"/>
            <a:ext cx="762120" cy="685800"/>
          </a:xfrm>
          <a:custGeom>
            <a:avLst/>
            <a:gdLst>
              <a:gd name="textAreaLeft" fmla="*/ 173880 w 762120"/>
              <a:gd name="textAreaRight" fmla="*/ 588240 w 7621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grama de Trabajo para el Manejo de Cargas - Oct.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F4A6-6BF4-419E-8A7C-A701A8FC0EE7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tor: Ing. Néstor BOTTA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876920" y="457200"/>
            <a:ext cx="0" cy="5715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53960" y="647640"/>
            <a:ext cx="3141720" cy="83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Eslinga de Cad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16480" y="647640"/>
            <a:ext cx="3141720" cy="83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Eslinga de Cable de Ac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23920" y="1905120"/>
            <a:ext cx="5715000" cy="533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Comparación en base a 3 Tn de 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3809880"/>
            <a:ext cx="344664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$ 235,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Para dos metros de cad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11560" y="3809880"/>
            <a:ext cx="344664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$ 1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Para dos metros de 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grama de Trabajo para el Manejo de Cargas - Oct.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52D1-640F-402E-A105-948CFBB16A29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tor: Ing. Néstor BOTTA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647640"/>
            <a:ext cx="7043760" cy="83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lan de recambio de elementos crí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1676520"/>
            <a:ext cx="7467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2209680"/>
            <a:ext cx="7467840" cy="403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Eslinga de Tel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Eslingas de Acer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Eslingas de Caden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Grille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Garr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parej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Los elementos normales serán incluidos en plan de inspec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Los elementos críticos son para reemplazar en forma programa según posiblidades de la empre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Los elementos muy críticos fueron elimin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685800"/>
            <a:ext cx="762120" cy="685800"/>
          </a:xfrm>
          <a:custGeom>
            <a:avLst/>
            <a:gdLst>
              <a:gd name="textAreaLeft" fmla="*/ 173880 w 762120"/>
              <a:gd name="textAreaRight" fmla="*/ 588240 w 7621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grama de Trabajo para el Manejo de Cargas - Oct.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38C5-2474-4536-8B85-94D0AAAED682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tor: Ing. Néstor BOTTA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53960" y="647640"/>
            <a:ext cx="7043760" cy="83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lan de inspección periód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1866960"/>
            <a:ext cx="7467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Los objetivos son: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planificar el controlar en periódico de todos los elemen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53960" y="2895480"/>
            <a:ext cx="7043760" cy="327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Inventario de todos los elementos con toda la info. de los mismo, fecha de compra, mantenimiento realizado, fechas de controles y resultado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Inspección interna o externa en caso de ser necesa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Frecuencia mínima mensual y revisada conforme a resulta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723960"/>
            <a:ext cx="762120" cy="685800"/>
          </a:xfrm>
          <a:custGeom>
            <a:avLst/>
            <a:gdLst>
              <a:gd name="textAreaLeft" fmla="*/ 173880 w 762120"/>
              <a:gd name="textAreaRight" fmla="*/ 588240 w 7621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grama de Trabajo para el Manejo de Cargas - Oct.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47F0-8F3E-4FA3-9E47-1A4D526E892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tor: Ing. Néstor BOTTA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53960" y="647640"/>
            <a:ext cx="7043760" cy="83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pacitación de todo el 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1866960"/>
            <a:ext cx="7467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Los objetivos son: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instruir a todo el personal sobre el uso adecuado de los elemen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53960" y="2895480"/>
            <a:ext cx="7043760" cy="327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Pólitica de la empresa en materia de esling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Estándar usado para el tall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Elementos no estánd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Pautas para el esling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Orden de los elemen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Como saber cuando una eslinga o accesorio no está en condiciones de u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Como inspeccionar los elemen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Que hacer en caso de encontrar elementos no adecu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723960"/>
            <a:ext cx="762120" cy="685800"/>
          </a:xfrm>
          <a:custGeom>
            <a:avLst/>
            <a:gdLst>
              <a:gd name="textAreaLeft" fmla="*/ 173880 w 762120"/>
              <a:gd name="textAreaRight" fmla="*/ 588240 w 7621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grama de Trabajo para el Manejo de Cargas - Oct.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0FE9-1C8B-4E7F-BB17-F38055DA38BA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tor: Ing. Néstor BOTTA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53960" y="647640"/>
            <a:ext cx="7043760" cy="83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ar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2590920"/>
            <a:ext cx="704376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Instalar en taller carteles con indicación clara de la capacidad de carga de las eslingas de 3 Tn en función de los ángulos de carga y la cantidad de esling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723960"/>
            <a:ext cx="762120" cy="685800"/>
          </a:xfrm>
          <a:custGeom>
            <a:avLst/>
            <a:gdLst>
              <a:gd name="textAreaLeft" fmla="*/ 173880 w 762120"/>
              <a:gd name="textAreaRight" fmla="*/ 588240 w 7621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grama de Trabajo para el Manejo de Cargas - Oct.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B9AD-8002-4D15-ABE7-85B398F8D589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tor: Ing. Néstor BOTTA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53960" y="647640"/>
            <a:ext cx="7043760" cy="83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lan de auditoria de uso en 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2743200"/>
            <a:ext cx="7043760" cy="327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Realización de recorrida de taller con jefe o supervsior para verificar e instruir sobre condiciones de u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Realización de informe y evaluación de la evolución de las condiciones de u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723960"/>
            <a:ext cx="762120" cy="685800"/>
          </a:xfrm>
          <a:custGeom>
            <a:avLst/>
            <a:gdLst>
              <a:gd name="textAreaLeft" fmla="*/ 173880 w 762120"/>
              <a:gd name="textAreaRight" fmla="*/ 588240 w 7621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1905120"/>
            <a:ext cx="7467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Los objetivos son: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verificar condiciones de uso de los elementos y pautas dadas en la capacit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grama de Trabajo para el Manejo de Cargas - Oct.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7471-7855-480E-B5B9-5A5C3A22025E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tor: Ing. Néstor BOTTA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353960" y="228600"/>
            <a:ext cx="704376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1752480"/>
            <a:ext cx="0" cy="44197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76240" y="5638680"/>
            <a:ext cx="800100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09680" y="5943600"/>
            <a:ext cx="121932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13/10/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81280" y="2819520"/>
            <a:ext cx="0" cy="3047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71640" y="5943600"/>
            <a:ext cx="274320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Verdana"/>
              </a:rPr>
              <a:t>Noviem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5943600"/>
            <a:ext cx="228600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Verdana"/>
              </a:rPr>
              <a:t>Diciem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14600" y="1066680"/>
            <a:ext cx="472428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Verdana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Verdana"/>
              </a:rPr>
              <a:t>Relevamiento, clasificación e inventariado de los element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Verdana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Verdana"/>
              </a:rPr>
              <a:t>Standarización de element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Verdana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Verdana"/>
              </a:rPr>
              <a:t>Plan de recambio de elementos crític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Verdana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Verdana"/>
              </a:rPr>
              <a:t>Plan de inspección periód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Verdana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Verdana"/>
              </a:rPr>
              <a:t>Capacitación de todo el person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Verdana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Verdana"/>
              </a:rPr>
              <a:t>Cartel en taller indicativo sobre tabla de carg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Verdana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Verdana"/>
              </a:rPr>
              <a:t>Plan de auditoria de uso en talle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33360" y="5257800"/>
            <a:ext cx="30481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47760" y="4876920"/>
            <a:ext cx="1400040" cy="304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5181480"/>
            <a:ext cx="380880" cy="457200"/>
          </a:xfrm>
          <a:custGeom>
            <a:avLst/>
            <a:gdLst>
              <a:gd name="textAreaLeft" fmla="*/ 86760 w 380880"/>
              <a:gd name="textAreaRight" fmla="*/ 294120 w 38088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4800600"/>
            <a:ext cx="380880" cy="457200"/>
          </a:xfrm>
          <a:custGeom>
            <a:avLst/>
            <a:gdLst>
              <a:gd name="textAreaLeft" fmla="*/ 86760 w 380880"/>
              <a:gd name="textAreaRight" fmla="*/ 294120 w 38088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4400640"/>
            <a:ext cx="380880" cy="457200"/>
          </a:xfrm>
          <a:custGeom>
            <a:avLst/>
            <a:gdLst>
              <a:gd name="textAreaLeft" fmla="*/ 86760 w 380880"/>
              <a:gd name="textAreaRight" fmla="*/ 294120 w 38088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4000680"/>
            <a:ext cx="380880" cy="457200"/>
          </a:xfrm>
          <a:custGeom>
            <a:avLst/>
            <a:gdLst>
              <a:gd name="textAreaLeft" fmla="*/ 86760 w 380880"/>
              <a:gd name="textAreaRight" fmla="*/ 294120 w 38088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3586320"/>
            <a:ext cx="380880" cy="457200"/>
          </a:xfrm>
          <a:custGeom>
            <a:avLst/>
            <a:gdLst>
              <a:gd name="textAreaLeft" fmla="*/ 86760 w 380880"/>
              <a:gd name="textAreaRight" fmla="*/ 294120 w 38088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3157560"/>
            <a:ext cx="380880" cy="457200"/>
          </a:xfrm>
          <a:custGeom>
            <a:avLst/>
            <a:gdLst>
              <a:gd name="textAreaLeft" fmla="*/ 86760 w 380880"/>
              <a:gd name="textAreaRight" fmla="*/ 294120 w 38088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2771640"/>
            <a:ext cx="380880" cy="457200"/>
          </a:xfrm>
          <a:custGeom>
            <a:avLst/>
            <a:gdLst>
              <a:gd name="textAreaLeft" fmla="*/ 86760 w 380880"/>
              <a:gd name="textAreaRight" fmla="*/ 294120 w 38088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Verdan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00360" y="4481640"/>
            <a:ext cx="621504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38680" y="2819520"/>
            <a:ext cx="0" cy="3047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2819520"/>
            <a:ext cx="0" cy="3047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105760" y="4067280"/>
            <a:ext cx="80964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43560" y="3672000"/>
            <a:ext cx="35049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110440" y="3276720"/>
            <a:ext cx="8049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110440" y="2895480"/>
            <a:ext cx="8049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522432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83408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57400" y="441972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57400" y="403848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57400" y="361008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57400" y="326232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57400" y="286704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828800" y="5714640"/>
            <a:ext cx="76212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grama de Trabajo para el Manejo de Cargas - Oct.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B588-4FB0-4EF3-97B9-C61C5F910B6D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tor: Ing. Néstor BOTTA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371600" y="1776240"/>
            <a:ext cx="746748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Copperplate Gothic Light"/>
                <a:ea typeface="Arial"/>
              </a:rPr>
              <a:t>Depósito leg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Copperplate Gothic Light"/>
                <a:ea typeface="Arial"/>
              </a:rPr>
              <a:t>Todos los derechos reserv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Copperplate Gothic Light"/>
                <a:ea typeface="Arial"/>
              </a:rPr>
              <a:t>Hecho el depósito que marca la ley 11.7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Copperplate Gothic Light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Copperplate Gothic Light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Copperplate Gothic Light"/>
                <a:ea typeface="Arial"/>
              </a:rPr>
              <a:t>	</a:t>
            </a:r>
            <a:r>
              <a:rPr b="0" lang="es-ES_tradnl" sz="1200" spc="-1" strike="noStrike">
                <a:solidFill>
                  <a:srgbClr val="ffffff"/>
                </a:solidFill>
                <a:latin typeface="Copperplate Gothic Light"/>
                <a:ea typeface="Arial"/>
              </a:rPr>
              <a:t>El derecho de propiedad de esta obra comprende para su autor la facultad exclusiva de disponer de ella, publicarla, traducirla, adaptarla o autorizar su traducción y reproducirla en cualquier forma, total o parcial, por medios electrónicos o mecánicos, incluyendo fotocopia, copia xerográfica, grabación magnetofónica y cualquier sistema de almacenamiento de información. Por consiguiente, ninguna persona física o jurídica está facultada para ejercitar los derechos precitados sin permiso escrito de RED PROTE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Copperplate Gothic Light"/>
                <a:ea typeface="Arial"/>
              </a:rPr>
              <a:t>	</a:t>
            </a:r>
            <a:r>
              <a:rPr b="0" lang="es-ES_tradnl" sz="1200" spc="-1" strike="noStrike">
                <a:solidFill>
                  <a:srgbClr val="ffffff"/>
                </a:solidFill>
                <a:latin typeface="Copperplate Gothic Light"/>
                <a:ea typeface="Arial"/>
              </a:rPr>
              <a:t>Los infractores serán reprimidos con las penas del art. 172 y concordantes del Código Penal (arts. 2°, 9°, 10, 71, 72 de la ley 11.723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s-ES_tradnl" sz="1200" spc="-1" strike="noStrike">
                <a:solidFill>
                  <a:srgbClr val="ffffff"/>
                </a:solidFill>
                <a:latin typeface="Copperplate Gothic Light"/>
                <a:ea typeface="Times New Roman"/>
              </a:rPr>
              <a:t> </a:t>
            </a:r>
            <a:r>
              <a:rPr b="0" lang="es-ES_tradnl" sz="1200" spc="-1" strike="noStrike">
                <a:solidFill>
                  <a:srgbClr val="ffffff"/>
                </a:solidFill>
                <a:latin typeface="Copperplate Gothic Light"/>
                <a:ea typeface="Times New Roman"/>
              </a:rPr>
              <a:t>Copyright 2003 por RED PROTEGER. Derechos Reservados.</a:t>
            </a:r>
            <a:r>
              <a:rPr b="0" lang="es-ES" sz="1200" spc="-1" strike="noStrike">
                <a:solidFill>
                  <a:srgbClr val="ffffff"/>
                </a:solidFill>
                <a:latin typeface="Copperplate Gothic Light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grama de Trabajo para el Manejo de Cargas - Oct.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379A-8F61-4837-B3E1-D2A1F476D3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tor: Ing. Néstor BOTTA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199880" y="2285640"/>
            <a:ext cx="725796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os pasos a dar son los siguien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terminar puntos de control e inspección conforme a ley, y a pautas de buenas prácti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lan de inspección periód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apacitación de todo el pers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lan de auditoria de u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28600"/>
            <a:ext cx="4800600" cy="1600200"/>
          </a:xfrm>
          <a:prstGeom prst="rightArrow">
            <a:avLst>
              <a:gd name="adj1" fmla="val 50000"/>
              <a:gd name="adj2" fmla="val 750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Puente Grúa/Grú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grama de Trabajo para el Manejo de Cargas - Oct.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EB6F-6862-43D3-A373-F45190436CD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tor: Ing. Néstor BOTTA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638360" y="2286000"/>
            <a:ext cx="693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52480" y="2362320"/>
            <a:ext cx="6400800" cy="2057400"/>
          </a:xfrm>
          <a:custGeom>
            <a:avLst/>
            <a:gdLst>
              <a:gd name="textAreaLeft" fmla="*/ 1324080 w 6400800"/>
              <a:gd name="textAreaRight" fmla="*/ 5076720 w 6400800"/>
              <a:gd name="textAreaTop" fmla="*/ 874080 h 2057400"/>
              <a:gd name="textAreaBottom" fmla="*/ 19072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2422"/>
                </a:moveTo>
                <a:arcTo wR="21600" hR="35910" stAng="6549065" swAng="-522076"/>
                <a:lnTo>
                  <a:pt x="4468" y="20022"/>
                </a:lnTo>
                <a:arcTo wR="21600" hR="35910" stAng="6026989" swAng="-1253978"/>
                <a:lnTo>
                  <a:pt x="17132" y="15655"/>
                </a:lnTo>
                <a:arcTo wR="21600" hR="35910" stAng="4773011" swAng="-522076"/>
                <a:lnTo>
                  <a:pt x="18900" y="8402"/>
                </a:lnTo>
                <a:lnTo>
                  <a:pt x="21600" y="0"/>
                </a:lnTo>
                <a:lnTo>
                  <a:pt x="21600" y="0"/>
                </a:lnTo>
                <a:arcTo wR="21600" hR="35910" stAng="4250935" swAng="797572"/>
                <a:lnTo>
                  <a:pt x="14432" y="8667"/>
                </a:lnTo>
                <a:arcTo wR="21600" hR="35910" stAng="5048507" swAng="702987"/>
                <a:lnTo>
                  <a:pt x="7168" y="4300"/>
                </a:lnTo>
                <a:arcTo wR="21600" hR="35910" stAng="5751493" swAng="797572"/>
                <a:lnTo>
                  <a:pt x="2700" y="8402"/>
                </a:lnTo>
                <a:close/>
              </a:path>
              <a:path fill="none" w="21600" h="21600">
                <a:moveTo>
                  <a:pt x="7168" y="8667"/>
                </a:moveTo>
                <a:arcTo wR="21600" hR="35910" stAng="5751493" swAng="275495"/>
                <a:lnTo>
                  <a:pt x="7168" y="4300"/>
                </a:lnTo>
              </a:path>
              <a:path fill="none" w="21600" h="21600">
                <a:moveTo>
                  <a:pt x="14432" y="8667"/>
                </a:moveTo>
                <a:arcTo wR="21600" hR="35910" stAng="5048507" swAng="-275495"/>
                <a:lnTo>
                  <a:pt x="14432" y="4300"/>
                </a:lnTo>
              </a:path>
              <a:path fill="none" w="21600" h="21600">
                <a:moveTo>
                  <a:pt x="4468" y="15655"/>
                </a:moveTo>
                <a:lnTo>
                  <a:pt x="4468" y="7600"/>
                </a:lnTo>
              </a:path>
              <a:path fill="none" w="21600" h="21600">
                <a:moveTo>
                  <a:pt x="17132" y="15655"/>
                </a:moveTo>
                <a:lnTo>
                  <a:pt x="17132" y="7600"/>
                </a:lnTo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Wide Latin"/>
              </a:rPr>
              <a:t>F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grama de Trabajo para el Manejo de Cargas - Oct.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7DC2-2C70-4822-924A-FFB18A984B0E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tor: Ing. Néstor BOTTA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ojo%20azul%20oscuro%20pp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mail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870600" y="5829480"/>
            <a:ext cx="1397160" cy="307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Verdana"/>
              </a:rPr>
              <a:t>44512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grama de Trabajo para el Manejo de Cargas - Oct.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96A4-0F76-4FFD-99D7-A4A5028492D3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tor: Ing. Néstor BOTTA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95280" y="3809880"/>
            <a:ext cx="75549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pperplate Gothic Light"/>
                <a:ea typeface="Times New Roman"/>
              </a:rPr>
              <a:t>"Todo lo que nace proviene necesariamente de una causa, pues sin causa nada puede tener origen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pperplate Gothic Light"/>
                <a:ea typeface="Times New Roman"/>
              </a:rPr>
              <a:t>Plat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grama de Trabajo para el Manejo de Cargas - Oct.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35DB-E71C-4272-B7F7-43270CA055E3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tor: Ing. Néstor BOTTA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38080" y="609480"/>
            <a:ext cx="838440" cy="563904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47840" y="304920"/>
            <a:ext cx="6324840" cy="76176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Análisis del Pelig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1523880"/>
            <a:ext cx="7010280" cy="441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Verdana"/>
              </a:rPr>
              <a:t>Denominación del Genérica del Peligro:</a:t>
            </a:r>
            <a:r>
              <a:rPr b="0" lang="es-AR" sz="1600" spc="-1" strike="noStrike">
                <a:solidFill>
                  <a:srgbClr val="ffffff"/>
                </a:solidFill>
                <a:latin typeface="Verdana"/>
              </a:rPr>
              <a:t> Manejo de Grandes Carg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Verdana"/>
              </a:rPr>
              <a:t>Daños esperado:</a:t>
            </a:r>
            <a:r>
              <a:rPr b="0" lang="es-AR" sz="1600" spc="-1" strike="noStrike">
                <a:solidFill>
                  <a:srgbClr val="ffffff"/>
                </a:solidFill>
                <a:latin typeface="Verdana"/>
              </a:rPr>
              <a:t> Muerte o incapacidad gr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Verdana"/>
              </a:rPr>
              <a:t>Motivo:</a:t>
            </a:r>
            <a:r>
              <a:rPr b="0" lang="es-AR" sz="1600" spc="-1" strike="noStrike">
                <a:solidFill>
                  <a:srgbClr val="ffffff"/>
                </a:solidFill>
                <a:latin typeface="Verdana"/>
              </a:rPr>
              <a:t> Caida del objeto y/o movimiento imprevisto del mism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Verdana"/>
              </a:rPr>
              <a:t>Causas:</a:t>
            </a:r>
            <a:r>
              <a:rPr b="0" lang="es-AR" sz="1600" spc="-1" strike="noStrike">
                <a:solidFill>
                  <a:srgbClr val="ffffff"/>
                </a:solidFill>
                <a:latin typeface="Verdana"/>
              </a:rPr>
              <a:t> Rotura de eslingas o accesorios, uso inadecuado de eslingas, eslingas sobrecargadas o en mal estado, falta de capacitación, eslingado inadecuado, falta de mantenimiento, movimiento brusco de cargas, sobrecarga o mal uso de la grúa o puente grúa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Verdana"/>
              </a:rPr>
              <a:t>Frecuencia de uso</a:t>
            </a:r>
            <a:r>
              <a:rPr b="0" lang="es-AR" sz="1600" spc="-1" strike="noStrike">
                <a:solidFill>
                  <a:srgbClr val="ffffff"/>
                </a:solidFill>
                <a:latin typeface="Verdana"/>
              </a:rPr>
              <a:t>: muy alta, muchas veces por dí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Verdana"/>
              </a:rPr>
              <a:t>Personal involucrado:</a:t>
            </a:r>
            <a:r>
              <a:rPr b="0" lang="es-AR" sz="1600" spc="-1" strike="noStrike">
                <a:solidFill>
                  <a:srgbClr val="ffffff"/>
                </a:solidFill>
                <a:latin typeface="Verdana"/>
              </a:rPr>
              <a:t> todo o casi to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grama de Trabajo para el Manejo de Cargas - Oct.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B5AD-C344-4F93-B8C0-456651D7AB7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tor: Ing. Néstor BOTTA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14680" y="457200"/>
            <a:ext cx="6324480" cy="76212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Valoración del Ries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42960" y="1752480"/>
            <a:ext cx="6667560" cy="3962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 u="sng">
                <a:solidFill>
                  <a:srgbClr val="ffffff"/>
                </a:solidFill>
                <a:uFillTx/>
                <a:latin typeface="Verdana"/>
              </a:rPr>
              <a:t>Consecu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Muy Grave: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Muerte, incapacidad total permanente; ejemplo: caída de altura, contacto eléctr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Grave: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Golpe en la cabeza, pérdidas de miembros y/o amputaciones, pérdida de conocimiento, quemaduras de 2do. y 3er. grado, intoxicaciones, choque con autoelevador, fracturas, aplastamient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Mediana: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Esfuerzos excesivos (hernia, lumbalgia, etc.), golpes en rodillas, torcedura de tobillos, malas posiciones de trabaj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Leve: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tropiezo, irritaciones de piel y/o vis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grama de Trabajo para el Manejo de Cargas - Oct.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EF29-F14A-4489-A824-D70279F0D80C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tor: Ing. Néstor BOTTA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14680" y="533520"/>
            <a:ext cx="6324480" cy="76176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Valoración del Ries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42960" y="1828800"/>
            <a:ext cx="6667560" cy="3962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Frecu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Muy Alta: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 Actividad que se ejecuta o lugar que se accede varias veces en el turno de trabajo. Lugar de transito obligado. Puesto de trabajo permanente o semiperman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Alta: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 Actividad que se ejecuta o lugar que se accede al menos una vez por dí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Baja: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 Actividad que se ejecuta o lugar que se accede al menos una vez por sema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Remota: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 Actividad que se ejecuta o lugar que se accede en forma esporádica.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grama de Trabajo para el Manejo de Cargas - Oct.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086F-3EB4-4E4D-AD31-1A4F0CBFC28E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tor: Ing. Néstor BOTTA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714680" y="1752480"/>
            <a:ext cx="6324480" cy="76212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Matríz de Ries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1676520"/>
            <a:ext cx="7086600" cy="3733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498636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6280" y="454824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76280" y="410544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6280" y="361476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259092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66920" y="259092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3067200"/>
            <a:ext cx="5257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2743200"/>
            <a:ext cx="1524240" cy="76212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Verdana"/>
              </a:rPr>
              <a:t>Grav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2638440"/>
            <a:ext cx="4457520" cy="38088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Frecu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705120"/>
            <a:ext cx="1600200" cy="34308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Muy Gr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52600" y="4152960"/>
            <a:ext cx="1600200" cy="34272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Gr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4605480"/>
            <a:ext cx="1600200" cy="34272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Mode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5029200"/>
            <a:ext cx="1600200" cy="34308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Le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3186000"/>
            <a:ext cx="1295280" cy="34308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Muy A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05280" y="3186000"/>
            <a:ext cx="1067040" cy="34308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A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19920" y="3186000"/>
            <a:ext cx="914400" cy="34308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Ba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62920" y="3186000"/>
            <a:ext cx="1143000" cy="34308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Remo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76760" y="3048120"/>
            <a:ext cx="0" cy="2361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43600" y="3048120"/>
            <a:ext cx="0" cy="2361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86600" y="3062160"/>
            <a:ext cx="0" cy="236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57640" y="3691080"/>
            <a:ext cx="1357200" cy="347400"/>
          </a:xfrm>
          <a:prstGeom prst="rect">
            <a:avLst/>
          </a:prstGeom>
          <a:solidFill>
            <a:srgbClr val="ff66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43240" y="4162320"/>
            <a:ext cx="1357200" cy="319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38680" y="3676680"/>
            <a:ext cx="1157400" cy="352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71680" y="4633920"/>
            <a:ext cx="129564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86200" y="4176720"/>
            <a:ext cx="106704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86200" y="4633920"/>
            <a:ext cx="106704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3705120"/>
            <a:ext cx="99036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19920" y="4176720"/>
            <a:ext cx="99036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5043600"/>
            <a:ext cx="1295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86200" y="5043600"/>
            <a:ext cx="10670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05520" y="4633920"/>
            <a:ext cx="990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05520" y="5043600"/>
            <a:ext cx="990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62920" y="3705120"/>
            <a:ext cx="12189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62920" y="417204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48520" y="4614840"/>
            <a:ext cx="12193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43840" y="504360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grama de Trabajo para el Manejo de Cargas - Oct.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0041-760A-4B36-AAAF-10B1AC4B9AA4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tor: Ing. Néstor BOTTA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52480" y="304920"/>
            <a:ext cx="6324840" cy="76176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Valoración del Ries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820880"/>
            <a:ext cx="1357200" cy="318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963880"/>
            <a:ext cx="1357200" cy="3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4106880"/>
            <a:ext cx="1357200" cy="3189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5097600"/>
            <a:ext cx="1357200" cy="3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14640" y="1542960"/>
            <a:ext cx="6896160" cy="87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  <a:ea typeface="Arial"/>
              </a:rPr>
              <a:t>Riesgo Muy Alto:</a:t>
            </a:r>
            <a:r>
              <a:rPr b="0" lang="es-AR" sz="1400" spc="-1" strike="noStrike">
                <a:solidFill>
                  <a:srgbClr val="ffffff"/>
                </a:solidFill>
                <a:latin typeface="Arial"/>
                <a:ea typeface="Arial"/>
              </a:rPr>
              <a:t> Es un nivel de riesgo inaceptable para la empresa. Deben implementarse medidas de prevención, protección y control en forma inmediata. Se deberá trabajar para bajar en nivel de riesg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14640" y="2705040"/>
            <a:ext cx="689616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  <a:ea typeface="Arial"/>
              </a:rPr>
              <a:t>Riesgo Alto:</a:t>
            </a:r>
            <a:r>
              <a:rPr b="0" lang="es-AR" sz="1400" spc="-1" strike="noStrike">
                <a:solidFill>
                  <a:srgbClr val="ffffff"/>
                </a:solidFill>
                <a:latin typeface="Arial"/>
                <a:ea typeface="Arial"/>
              </a:rPr>
              <a:t> La operación podrá continuar, pero bajo un control muy estricto por parte de la Jefatura y Supervisión. Se deberán implementar un programa de trabajo para administar el riesgo y bajar en nivel de riesg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14640" y="3924360"/>
            <a:ext cx="689616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  <a:ea typeface="Arial"/>
              </a:rPr>
              <a:t>Riesgo Moderado:</a:t>
            </a:r>
            <a:r>
              <a:rPr b="0" lang="es-AR" sz="1400" spc="-1" strike="noStrike">
                <a:solidFill>
                  <a:srgbClr val="ffffff"/>
                </a:solidFill>
                <a:latin typeface="Arial"/>
                <a:ea typeface="Arial"/>
              </a:rPr>
              <a:t> Implementar un programa de control para mantener el nivel de riesgo o para bajar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14640" y="4915080"/>
            <a:ext cx="689616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  <a:ea typeface="Arial"/>
              </a:rPr>
              <a:t>Riesgo Bajo:</a:t>
            </a:r>
            <a:r>
              <a:rPr b="0" lang="es-AR" sz="1400" spc="-1" strike="noStrike">
                <a:solidFill>
                  <a:srgbClr val="ffffff"/>
                </a:solidFill>
                <a:latin typeface="Arial"/>
                <a:ea typeface="Arial"/>
              </a:rPr>
              <a:t> Implementar un programa de control para mantener el nivel de riesg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grama de Trabajo para el Manejo de Cargas - Oct.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D5FE-E2DE-430B-809A-9FCC31707F9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tor: Ing. Néstor BOTTA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38080" y="609480"/>
            <a:ext cx="1600200" cy="563904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1371600"/>
            <a:ext cx="4800600" cy="1600200"/>
          </a:xfrm>
          <a:prstGeom prst="rightArrow">
            <a:avLst>
              <a:gd name="adj1" fmla="val 50000"/>
              <a:gd name="adj2" fmla="val 750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Acceso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3633840"/>
            <a:ext cx="4800600" cy="1600200"/>
          </a:xfrm>
          <a:prstGeom prst="rightArrow">
            <a:avLst>
              <a:gd name="adj1" fmla="val 50000"/>
              <a:gd name="adj2" fmla="val 750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Puente Grúa/Grú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grama de Trabajo para el Manejo de Cargas - Oct.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6CB2-9D1A-415C-86A9-7EBFB6FF9BD0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tor: Ing. Néstor BOTTA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9T20:09:03Z</dcterms:created>
  <dc:creator>Nestor Adolfo Botta</dc:creator>
  <dc:description/>
  <dc:language>en-US</dc:language>
  <cp:lastModifiedBy>Nestor BOTTA</cp:lastModifiedBy>
  <cp:lastPrinted>2000-09-07T16:43:30Z</cp:lastPrinted>
  <dcterms:modified xsi:type="dcterms:W3CDTF">2003-10-13T22:42:34Z</dcterms:modified>
  <cp:revision>198</cp:revision>
  <dc:subject/>
  <dc:title>Sin título de diapositiva</dc:title>
</cp:coreProperties>
</file>